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CFA47-5643-44D7-AB82-2C18C364F8E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1AB233-6429-4FC0-9BE9-585581D6B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08C917-2601-428B-A9FA-8D2882E0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47FC40-111A-48AF-A986-F883F6FA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7116A5-D6AD-47BB-BB48-0CFD7F4B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77EDC-9A63-46DC-A17F-47E2F17FD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45F33A-C2D0-4669-AC3F-5CF9647C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A8E633-2EA9-42E8-96D7-2BAE2B37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E6699-B469-4915-93C0-9F9195887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2A3F-C243-4687-972C-A68AFB6CC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89DF-C81B-44E2-A598-C655942CD8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C7F8-ECB8-446E-9DC4-2EB2ADD8BB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CA71-4522-4A25-A324-1D48F4E4EC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D3DD-A51B-4EDC-AF19-280D6CCD71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82BA-D2AF-4774-BC0B-469B0D88B9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F632-828C-4183-820F-49A48F8E3A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6177-7D49-4A96-A18E-0610866547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34AB-C48A-45ED-AD2C-8CF3A326CE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7C92-23A1-4E48-B69D-E91F990A2C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8A1C-5665-4F2F-B4DD-C3E4279127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3362D-B928-4A66-BB46-161D59297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9A6C-1652-45C7-80D8-C3029BFD5A4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ED091-0ED7-409D-9BBF-9C331C9C34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4E7F2-98A6-4CAB-AF2D-EFF7074CC1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5D92F-D602-45E0-BA20-881FB7CAA2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F8439-D98C-4983-AF3F-D54CD7CD2F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B493C-D645-4E21-9483-2A294EA3D7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73C53-4B5F-433A-B28B-5378AE62E4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81543-C4E1-41A6-8F10-08B6BC38D9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4943-896C-4959-B3D8-5DE30A2103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36C8D-2FC4-4EE5-B011-DFEDC25A4AB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877EF-3006-42D6-8BE1-21D443B8D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9CAE-C7EB-438D-AB51-7268D2E9DE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6195A-A214-4AF9-A9ED-C4B84F3D490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41225-4D67-4B89-8250-F00539CA35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B73A3-A926-4482-805B-13E8A4C25C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2579D-6D1C-41EF-BDBF-7EA579BB7F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9CC08-DEBF-47EC-8E49-229A2ABE25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97362-764E-43B4-847A-A424A3D3D4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F40EA-10CA-4577-8D63-05C2D12165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55FEC-73CC-4941-AA6B-0A9211494B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16A2A-192C-4515-8BCB-58289261AB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93110-946C-4A38-BC2B-B05DDA3CA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AE4C-77CF-4D91-AFE8-3BA04C0EDB2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673EA-5CBF-46B7-9BB7-9DE9CD2080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0E1D8-A21A-4A85-89A6-EA849C9514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6EEC6-24FE-4F5D-8E40-570345B9AE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7F1B9-1D88-4C41-A198-E9426EF3A7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2BBFC-F054-4002-80B6-BF31652693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76E6-168A-42D3-9328-33E2679CF8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E262-5AE4-404E-B492-518FBA8139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2BFA-31D9-4A1D-8903-DBE9DB09022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2672-1CB7-47C5-BACC-04925E2B6C3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E62D-7071-4D94-8661-BA997372A0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18AD-0AC9-4A1D-BFAE-526C3824F5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1E92-7C8A-42D0-B796-70BFE2730A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0419-3AAA-4B67-B099-F6DCD946A3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60C8-2554-433B-954E-39C2C7D82E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D974-5775-44CF-B8D6-7FCEA3CF4E8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A8CB-21C7-481B-A5BB-1DB4F88B4DC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16E90-1286-4DE3-8EA2-3CF464D11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1349A-09BF-4D7A-BF76-3FDB47F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9DEB4-C8A0-4A50-A274-296E1B69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A2F0C-B4F8-4FF4-8393-A4BC59E1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E6802-9EF1-4E40-B17C-BC2DFD90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BD30-DAAF-469E-AAB6-5DB63C654FD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F9C6C-7D4E-418C-AF79-9DE170BB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B27FD-9639-4088-9601-67B1FC9E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5B039-B3C9-4A29-86CB-AE0F9F1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17661-89E9-4A64-9E27-54E029B7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B23C9-1CA3-4167-AF97-C7E16DD4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40FFB-BE33-4E89-AE26-ECA10BF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66972-5591-4949-A9B0-34BDA5B7F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9534-ECA9-48EF-89D7-EDBE98EC4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C1AE-66E6-4103-9657-E7779CAB10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1782-55E0-4AED-9D66-033ABCAE6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6CC8-74FB-42BE-BFF0-52515D5C34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6926-8C80-423A-9F47-1CD19969A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D27A-25E5-48E2-80EF-295F0DC5A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13DD-EBA1-451D-B77D-182018879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3BCC-BC64-47B3-BD28-FAFA780227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484C-72C0-453B-9D35-567E0A80E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3C0E-21A9-4EE6-9949-46A9C80A40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432-671B-4FA2-800E-CD39355315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9BD-38B8-4AEC-A55E-A77A74D663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EE7-A5A5-42C7-9848-272F2EAA43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C6D-D46A-4E68-9D38-74E470B68E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D80-9F3F-43B1-A104-28FE9710D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BDED-3C97-43CF-BE81-4F3757454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077-89DC-465E-AA74-A50141F82D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846-C8BE-448F-BCDF-320E4576B2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A80-BC02-487B-ABD6-489CA48F82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B05-91B9-4858-AFA4-06DDCC4811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B75-6753-4C22-A0CB-88BB572A89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0BD-341A-43CF-9331-3358F52A1D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7EF-82FE-487A-BA06-8C51FFD6EB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F95A1-4648-4519-A7FD-CDC35795F2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29F3C-0853-464C-8646-F9BE359D68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DAD70-2517-41CB-B827-3F2F8C48C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A685-988B-424D-BEB8-73511C860E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DC06-5666-45B8-98C9-2040F2C045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45E10-0AA7-42D7-B165-5ABAD814C0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55ADE-7ACD-4294-BFA5-A290A1F264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C1508-B1AC-467F-A3C3-0F4183CAA4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A32C1-461C-469C-B665-0F4C9E6B4F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A7D6-C266-45D2-AB1D-1287A4F5AE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B9D8-4EF7-4D68-A169-1C27AD71CD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88879-9C39-4B3F-AD78-5F10593486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4107-031C-4342-A001-E67725B2C1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6E7CB-357D-4DDE-89A8-B16A7BC78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CDA1-6709-476D-8A30-FAEC80A7DB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DE621-900F-42CC-96E0-A52B113498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722F9-2702-4C6E-9C6F-C42B3684FC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B325-5079-482D-91A1-B81D744F5A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B2CF-80D3-4C95-9765-CCF0A86237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5E46-A7D1-44C8-8DA6-9A42B3F3AC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E4F3-FAE9-4F3D-BE91-C9DE205AE9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11CE8-982E-4746-A923-0599171916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C382C-46E8-4883-95CA-CE78D9B459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9B61-F127-4C9F-8BE6-0D201DEA11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DF26-FB03-4D74-8D07-86486F4D8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EEE1-9BEE-41A6-B292-BE611FFC57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E12E2-7B56-466F-94CB-D67FD26E91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317-9022-4979-AC3B-EBB704945D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7045-8395-4762-95FD-1B0E8A5738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9612-82F5-4E4D-B92B-5EE6F1C4C2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6B9E-E38C-43FD-97C8-46D7E3BC36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91F-AE52-4D75-A0FE-CCB4E6E39C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D961-59DB-4486-B227-17C5719082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85D-9B0C-472D-A65F-E981457161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393B-6FEA-432E-A890-2C3D855F9E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0D5E-467B-4CF9-9C78-780099153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F323-5059-4396-9A68-FF19FEE0F5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504-0D3A-4AE6-84DE-93EB25658A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C973-D1D1-484A-88CF-F012E058CF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E25-DAFA-4103-B009-8CBC774917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3B13F-89E3-4D00-83F8-B718E95461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D1DC9-B9B6-41AB-9193-6DDF99B782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9F990-C089-48C3-8197-68CBA7CD87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F5412-635F-4438-8B9F-2B6659CC54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3B3BF-8B62-4576-941C-0004474815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00BF7-11A8-4B21-AE3D-B96212A162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07C6D-F0F9-448A-A5C7-77E22B868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C671-04A6-4267-AB7A-31A197A17B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10974-AAEF-4A69-8A81-FF5D554CC2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61CC4-5312-45BB-9CAF-4893EB9AFC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6969C-AE94-473C-96FB-87C0CFD04B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0DFE2-E2A5-4894-BEF5-83D883229C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D69C3-03A8-4380-915D-CB5C2C032F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0EFEB-26C8-4958-934A-D023DCE90EC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18DDF-664E-4DBD-B1FC-42EE305E8A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0AA60-2911-446E-9B4A-359D578C19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D6F28-F17E-4DC6-91ED-BF3C3FDF4B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FD4A4-7F7C-4D23-9A5F-99472EA77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1CB1-1F4D-4FED-9D47-7D41404799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8D830-1DDA-436D-9085-EA4C585B180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86234-0478-448D-90C3-CA26C4A549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D065B-2E8C-47B6-8C3D-01589F8859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D0D27-50A9-4D3D-93F1-9C0EEA4ED4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1DB45-6CA4-4048-B593-24632ADF0F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1049E-0538-4CF9-9E1D-1D60CA9E7F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B4091-F4A8-4F91-90FB-59E6B92F31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64FA-9898-4AC3-B8F6-EF19FC6068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4333-9351-411E-9D5E-36C56C515E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D66F-E866-4A14-A7BD-2FBEBD61A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F3C428-7C3E-4E16-91A5-0043DF5E12E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D04CA4-9C54-46ED-BAB0-5C883D90A17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18482D-152D-48C8-8E93-0D87C1CD5FB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F33D0-E256-4D0D-B33A-B9543F564AB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A8F07-86AA-45D6-A5D9-C5E9FEB32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94489B-CD0E-43C9-9114-B7C5779D279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A0DB8A-EB4A-428A-998F-93D3E5CF272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DC5DF6-84B1-46EA-91F1-9C65B77FDD3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ED002E-5AA3-44F7-A0AE-BBCCA19E3BE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849F93-7084-4CFB-8D75-3A5056D58F1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BAE9BC-73EB-4EC9-B112-D0EE326B1B3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966D0E-1763-4846-A98E-2C499B59C4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2B33C4-6978-4547-8AC5-B74BC6A21B6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16:07Z</dcterms:modified>
  <cp:revision>157</cp:revision>
  <dc:subject/>
  <dc:title>Παρουσίαση του PowerPoint</dc:title>
</cp:coreProperties>
</file>